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F33329-E27A-48E1-92FA-6DF5E2780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C53746-4727-4F22-BB26-69625F410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F7EE11-2C55-4281-8F15-E26FE07FD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DC2595-65BB-41B1-810F-A04A31286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C65C0-EFB2-463B-BC4A-A678CF039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9FA54-C63C-4FF2-BBD3-503675B5A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52A1B-CCBA-421B-B471-DCC439354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EDE85-7246-4E89-8837-487803E35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8858F-F140-4830-80B0-7A4929E12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3834A-2707-464B-A499-76043B64D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6E8C8-224E-4E59-B456-9B0074E3C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A48BA2-173A-447C-AB2D-47C43517E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CEB42-599B-45EF-8AEC-2D82CCB04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94378-AB12-43A4-831A-741CA47B7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0B139-7298-42B3-8713-476D15D3E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B4328-9B7C-4A13-96E9-3C920525B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22FC3-B4E2-471A-8134-01217538F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EF4761-8CA8-4924-A86E-063BCEB7A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83D6D1-5F7D-4C04-8450-C332AF76A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1A2374-7DDD-44FA-9659-7D5582E0B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AF3F60-D266-43F6-8B60-D041AAA66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847B75-96B4-4ADA-9D84-EAD9CB684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BF53B2-99DC-466C-9B37-48C6C44A0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6ED52C-17D1-4C1E-9E31-4C9A2AF58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3B716-C45C-47E5-9099-35666202975C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4F742-6546-4565-8C59-3ABAB794CA27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-181080" y="1447200"/>
            <a:ext cx="93250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13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5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(Пр.406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1.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Не ми казвай с жални думи: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„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ън е нашият живот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идимото е лъжливо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мъртви са, които спят!"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/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-252360" y="2418480"/>
            <a:ext cx="9648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2.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Нашият живот цел има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ажен е, значителен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ма работа за тебе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ма работа за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мен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/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-36360" y="2437560"/>
            <a:ext cx="9216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3. Не на бъдеще разчитай! Миналото забрави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Настоящето е твое –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него ти употреби!</a:t>
            </a:r>
            <a:r>
              <a:rPr b="0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/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-36360" y="2437560"/>
            <a:ext cx="9216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4. Всеки век дейци е имал смели, доблестни, добри;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да оставим подир себе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дири благородни ние!</a:t>
            </a:r>
            <a:r>
              <a:rPr b="0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-36360" y="2437560"/>
            <a:ext cx="9216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5. Да направим ние достоен, възвишен живота си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Да се учим да работим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също и да чакаме!</a:t>
            </a:r>
            <a:r>
              <a:rPr b="0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Text Box 3" hidden="1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10-04-17T09:52:05Z</dcterms:modified>
  <cp:revision>63</cp:revision>
  <dc:subject/>
  <dc:title>Slide 1</dc:title>
</cp:coreProperties>
</file>